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E2B7-BA1D-4D4C-B74E-C8C96B6D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F07-544F-413C-95CF-9BF2E850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B0CC-C932-4C84-89D9-B04EA76B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F57-6F52-40E8-88D4-C74701C0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DC49-6856-483A-8B7E-050E6D8E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7773-B6FE-417C-AFE6-098B8CBA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8339-9BF5-4200-9939-67654721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00A2-B600-4326-93D5-AD5C7787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19A-5FF6-4E21-9E46-56F7FD1A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D0C-319E-425B-9EF3-D59ED65D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A0B-F4D4-48C4-9583-D3185098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F3B-CDCE-49F1-B10C-555F8984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3CBA-C552-47C3-91B1-17696DBF4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ntananaturalist.org/wp-content/uploads/2008/05/Wolves-Humans.j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ontananaturalist.org/wp-content/uploads/2008/05/Montana-Wildlife.jp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ontananaturalist.org/wp-content/uploads/2008/05/Montana-Wildlife.jp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veling Trunks-Kindergarten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ory Board and Student Act.1-geared towards the Classroom and Natural Resources</a:t>
            </a:r>
            <a:br>
              <a:rPr sz="4000"/>
            </a:b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y Esther Smith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T-7465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ject 4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ng the way, teachers lead students in learning about habitat, body structure, food, range, distinguishing characteristics, tracks, skills of a field biologist, and phenology as it relates to Montana wildlife. Lessons are geared primarily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th/5th g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rning lev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guide aims to be place-based and to keep learning going long after the trunk is returned through access to a wildlife monito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TEACHER would say!, now lets see the next Activity-2- The Greenstalk’s-A Farm Famil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ture Discovery Traveling Trunks-An Environment Educational resource for Stud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1" descr="http://www.montananaturalist.org/wp-content/uploads/2008/06/dscn0512.jpg"/>
          <p:cNvPicPr/>
          <p:nvPr/>
        </p:nvPicPr>
        <p:blipFill>
          <a:blip r:embed="rId1"/>
          <a:stretch/>
        </p:blipFill>
        <p:spPr>
          <a:xfrm>
            <a:off x="380880" y="1752480"/>
            <a:ext cx="84582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traveling educational trunks help make natural history come alive for your classroom. Each trunk is filled with interdisciplinary and scientifically-accurate educational materials such as grizzly hides, wolf skulls, age-appropriate lesson plans, posters, videos, audio cassettes, games and puppe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80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y Board and Activ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LVES AND HUMA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http://www.montananaturalist.org/wp-content/uploads/2008/05/Wolves-Humans-300x2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371600"/>
            <a:ext cx="8458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luded in the trunk is a curriculum guide, hides, fur samples, skulls, plaster casts, videos, and cassette ta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se are  the Environmental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ducationa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ooks-SONGBIRD BLUE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dscn28073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 students appreciate songbirds and learn how to help insure that their songs always herald spring in the Rock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REATENED AND ENDANGERED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http://www.montananaturalist.org/wp-content/uploads/2008/05/Montana-Wildlife-300x17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124080"/>
            <a:ext cx="73152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ide the trunk you will find hide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mens, books, posters, videos, plaster tracks, and a curriculum guid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EW!!!  WILDLIFE TRUN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://www.montananaturalist.org/wp-content/uploads/2008/05/Montana-Wildlife-300x17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0"/>
            <a:ext cx="8534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trunk and curriculum offer a study of some of the amazing wildlife in Western Montana. Students become wildlife biologists to complete a creative research project about mammals of Western Montana. Students link directly to learn about real wildlife being monitored on a continual basis in the mountai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02:10:47Z</dcterms:created>
  <dc:creator>CIT</dc:creator>
  <dc:description/>
  <dc:language>en-US</dc:language>
  <cp:lastModifiedBy>CIT</cp:lastModifiedBy>
  <dcterms:modified xsi:type="dcterms:W3CDTF">2012-04-05T03:12:50Z</dcterms:modified>
  <cp:revision>3</cp:revision>
  <dc:subject/>
  <dc:title>Nature Discovery Traveling Trunks </dc:title>
</cp:coreProperties>
</file>